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8.png" ContentType="image/png"/>
  <Override PartName="/ppt/media/image13.gif" ContentType="image/gif"/>
  <Override PartName="/ppt/media/image5.png" ContentType="image/png"/>
  <Override PartName="/ppt/media/wayoff.wav" ContentType="audio/x-wav"/>
  <Override PartName="/ppt/media/Yippee3.wav" ContentType="audio/x-wav"/>
  <Override PartName="/ppt/media/image2.jpeg" ContentType="image/jpeg"/>
  <Override PartName="/ppt/media/image3.jpeg" ContentType="image/jpeg"/>
  <Override PartName="/ppt/media/goodnite1.wav" ContentType="audio/x-wav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239-5C7D-4C97-9C65-89C3ECAB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53C-372F-4BDF-BE25-AB673488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E26-5318-43BE-8049-32E09C6B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578-0B80-4673-8169-957046BD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B3E-CF3A-4C7A-8C0A-5D6C6EDF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21A-40D7-4EE5-A6A6-63DFF246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7CAC-87F8-42F4-A87C-64107191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BCD-6524-4A91-BBCD-0D0378E5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A05-AF47-4A78-91B0-59839289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DF7A-9394-4A48-BCFC-1988EA3F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C1F-0061-4CEC-B5F8-772E94D2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774-1961-4D58-9C4C-E653F06B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578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lbert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lbertu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lbert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lbert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lbertu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lbertu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A105-B4B6-475C-84F4-7C2D471AF457}" type="slidenum">
              <a:rPr b="0" lang="en-US" sz="1400" spc="-1" strike="noStrike">
                <a:solidFill>
                  <a:srgbClr val="ffffff"/>
                </a:solidFill>
                <a:latin typeface="Albertu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lbert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ayoff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Yippee3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ayoff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Yippee3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ayoff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Yippee3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ayoff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Yippee3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ayoff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Yippee3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goodnite1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1d1cb"/>
                </a:solidFill>
                <a:latin typeface="Albertus"/>
              </a:rPr>
              <a:t>Théorie des couleurs</a:t>
            </a:r>
            <a:endParaRPr b="0" lang="en-US" sz="96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Explorons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Directions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"/>
              </a:rPr>
              <a:t>Read each question or statement carefully</a:t>
            </a:r>
            <a:endParaRPr b="0" lang="en-US" sz="24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"/>
              </a:rPr>
              <a:t>Pick an answer</a:t>
            </a:r>
            <a:endParaRPr b="0" lang="en-US" sz="24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"/>
              </a:rPr>
              <a:t>If you choose a wrong answer, click the arrow key to return to the question</a:t>
            </a:r>
            <a:endParaRPr b="0" lang="en-US" sz="24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"/>
              </a:rPr>
              <a:t>If you choose the correct answer, click the arrow key to move on to the next question</a:t>
            </a:r>
            <a:endParaRPr b="0" lang="en-US" sz="2400" spc="-1" strike="noStrike">
              <a:solidFill>
                <a:srgbClr val="ffffff"/>
              </a:solidFill>
              <a:latin typeface="Albertu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lbertus"/>
            </a:endParaRPr>
          </a:p>
        </p:txBody>
      </p:sp>
      <p:pic>
        <p:nvPicPr>
          <p:cNvPr id="70" name="Picture 4" descr="stoplight"/>
          <p:cNvPicPr/>
          <p:nvPr/>
        </p:nvPicPr>
        <p:blipFill>
          <a:blip r:embed="rId1"/>
          <a:stretch/>
        </p:blipFill>
        <p:spPr>
          <a:xfrm>
            <a:off x="5867280" y="2209680"/>
            <a:ext cx="13478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Les couleurs primaires sont: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lbertus"/>
                <a:hlinkClick r:id="rId1" action="ppaction://hlinksldjump"/>
              </a:rPr>
              <a:t>Jaune, vert et noir</a:t>
            </a:r>
            <a:endParaRPr b="0" lang="en-US" sz="28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lbertus"/>
                <a:hlinkClick r:id="rId2" action="ppaction://hlinksldjump"/>
              </a:rPr>
              <a:t>Bleu, rouge et jaune</a:t>
            </a:r>
            <a:endParaRPr b="0" lang="en-US" sz="28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lbertus"/>
                <a:hlinkClick r:id="rId3" action="ppaction://hlinksldjump"/>
              </a:rPr>
              <a:t>Orange, violet et vert</a:t>
            </a:r>
            <a:endParaRPr b="0" lang="en-US" sz="2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OOPS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74" name="Picture 4" descr="upset"/>
          <p:cNvPicPr/>
          <p:nvPr/>
        </p:nvPicPr>
        <p:blipFill>
          <a:blip r:embed="rId1"/>
          <a:stretch/>
        </p:blipFill>
        <p:spPr>
          <a:xfrm>
            <a:off x="3200400" y="1905120"/>
            <a:ext cx="2577960" cy="2824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" action="ppaction://hlinkshowjump?jump=previousslide"/>
          </p:cNvPr>
          <p:cNvSpPr/>
          <p:nvPr/>
        </p:nvSpPr>
        <p:spPr>
          <a:xfrm>
            <a:off x="3733920" y="5105520"/>
            <a:ext cx="1981080" cy="914400"/>
          </a:xfrm>
          <a:custGeom>
            <a:avLst/>
            <a:gdLst>
              <a:gd name="textAreaLeft" fmla="*/ 59040 w 1981080"/>
              <a:gd name="textAreaRight" fmla="*/ 1922040 w 1981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87" h="21600">
                <a:moveTo>
                  <a:pt x="0" y="0"/>
                </a:moveTo>
                <a:lnTo>
                  <a:pt x="46787" y="0"/>
                </a:lnTo>
                <a:lnTo>
                  <a:pt x="46787" y="21600"/>
                </a:lnTo>
                <a:lnTo>
                  <a:pt x="0" y="21600"/>
                </a:lnTo>
                <a:close/>
              </a:path>
              <a:path fill="lightenLess" w="46787" h="21600">
                <a:moveTo>
                  <a:pt x="0" y="0"/>
                </a:moveTo>
                <a:lnTo>
                  <a:pt x="46787" y="0"/>
                </a:lnTo>
                <a:lnTo>
                  <a:pt x="45387" y="1400"/>
                </a:lnTo>
                <a:lnTo>
                  <a:pt x="1400" y="1400"/>
                </a:lnTo>
                <a:close/>
              </a:path>
              <a:path fill="darken" w="46787" h="21600">
                <a:moveTo>
                  <a:pt x="46787" y="0"/>
                </a:moveTo>
                <a:lnTo>
                  <a:pt x="46787" y="21600"/>
                </a:lnTo>
                <a:lnTo>
                  <a:pt x="45387" y="20200"/>
                </a:lnTo>
                <a:lnTo>
                  <a:pt x="45387" y="1400"/>
                </a:lnTo>
                <a:close/>
              </a:path>
              <a:path fill="darkenLess" w="46787" h="21600">
                <a:moveTo>
                  <a:pt x="46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7" y="20200"/>
                </a:lnTo>
                <a:close/>
              </a:path>
              <a:path fill="lighten" w="46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7" h="21600">
                <a:moveTo>
                  <a:pt x="16387" y="10800"/>
                </a:moveTo>
                <a:lnTo>
                  <a:pt x="30400" y="3794"/>
                </a:lnTo>
                <a:lnTo>
                  <a:pt x="30400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Correct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77" name="Picture 4" descr="thumbsup"/>
          <p:cNvPicPr/>
          <p:nvPr/>
        </p:nvPicPr>
        <p:blipFill>
          <a:blip r:embed="rId1"/>
          <a:stretch/>
        </p:blipFill>
        <p:spPr>
          <a:xfrm>
            <a:off x="3581280" y="1676520"/>
            <a:ext cx="1862280" cy="27381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6">
            <a:hlinkClick r:id="" action="ppaction://hlinkshowjump?jump=nextslide"/>
          </p:cNvPr>
          <p:cNvSpPr/>
          <p:nvPr/>
        </p:nvSpPr>
        <p:spPr>
          <a:xfrm>
            <a:off x="3581280" y="495288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157" h="21600">
                <a:moveTo>
                  <a:pt x="19572" y="3794"/>
                </a:moveTo>
                <a:lnTo>
                  <a:pt x="33585" y="10800"/>
                </a:lnTo>
                <a:lnTo>
                  <a:pt x="19572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lbertus"/>
              </a:rPr>
              <a:t>Qui a joué un rôle dans l’histoire de la théorie des couleurs?</a:t>
            </a:r>
            <a:endParaRPr b="0" lang="en-US" sz="40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lbertus"/>
                <a:hlinkClick r:id="rId1" action="ppaction://hlinksldjump"/>
              </a:rPr>
              <a:t>Bridgette Riley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lbertus"/>
                <a:hlinkClick r:id="rId2" action="ppaction://hlinksldjump"/>
              </a:rPr>
              <a:t>Faith Ringgold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lbertus"/>
                <a:hlinkClick r:id="rId3" action="ppaction://hlinksldjump"/>
              </a:rPr>
              <a:t>Leonardo da Vinci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OOPS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82" name="Picture 3" descr="upset"/>
          <p:cNvPicPr/>
          <p:nvPr/>
        </p:nvPicPr>
        <p:blipFill>
          <a:blip r:embed="rId1"/>
          <a:stretch/>
        </p:blipFill>
        <p:spPr>
          <a:xfrm>
            <a:off x="3200400" y="1905120"/>
            <a:ext cx="2577960" cy="28242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4">
            <a:hlinkClick r:id="" action="ppaction://hlinkshowjump?jump=previousslide"/>
          </p:cNvPr>
          <p:cNvSpPr/>
          <p:nvPr/>
        </p:nvSpPr>
        <p:spPr>
          <a:xfrm>
            <a:off x="3733920" y="5105520"/>
            <a:ext cx="1981080" cy="914400"/>
          </a:xfrm>
          <a:custGeom>
            <a:avLst/>
            <a:gdLst>
              <a:gd name="textAreaLeft" fmla="*/ 59040 w 1981080"/>
              <a:gd name="textAreaRight" fmla="*/ 1922040 w 1981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87" h="21600">
                <a:moveTo>
                  <a:pt x="0" y="0"/>
                </a:moveTo>
                <a:lnTo>
                  <a:pt x="46787" y="0"/>
                </a:lnTo>
                <a:lnTo>
                  <a:pt x="46787" y="21600"/>
                </a:lnTo>
                <a:lnTo>
                  <a:pt x="0" y="21600"/>
                </a:lnTo>
                <a:close/>
              </a:path>
              <a:path fill="lightenLess" w="46787" h="21600">
                <a:moveTo>
                  <a:pt x="0" y="0"/>
                </a:moveTo>
                <a:lnTo>
                  <a:pt x="46787" y="0"/>
                </a:lnTo>
                <a:lnTo>
                  <a:pt x="45387" y="1400"/>
                </a:lnTo>
                <a:lnTo>
                  <a:pt x="1400" y="1400"/>
                </a:lnTo>
                <a:close/>
              </a:path>
              <a:path fill="darken" w="46787" h="21600">
                <a:moveTo>
                  <a:pt x="46787" y="0"/>
                </a:moveTo>
                <a:lnTo>
                  <a:pt x="46787" y="21600"/>
                </a:lnTo>
                <a:lnTo>
                  <a:pt x="45387" y="20200"/>
                </a:lnTo>
                <a:lnTo>
                  <a:pt x="45387" y="1400"/>
                </a:lnTo>
                <a:close/>
              </a:path>
              <a:path fill="darkenLess" w="46787" h="21600">
                <a:moveTo>
                  <a:pt x="46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7" y="20200"/>
                </a:lnTo>
                <a:close/>
              </a:path>
              <a:path fill="lighten" w="46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7" h="21600">
                <a:moveTo>
                  <a:pt x="16387" y="10800"/>
                </a:moveTo>
                <a:lnTo>
                  <a:pt x="30400" y="3794"/>
                </a:lnTo>
                <a:lnTo>
                  <a:pt x="30400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Correcte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85" name="Picture 3" descr="thumbsup"/>
          <p:cNvPicPr/>
          <p:nvPr/>
        </p:nvPicPr>
        <p:blipFill>
          <a:blip r:embed="rId1"/>
          <a:stretch/>
        </p:blipFill>
        <p:spPr>
          <a:xfrm>
            <a:off x="3581280" y="1676520"/>
            <a:ext cx="1862280" cy="27381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4">
            <a:hlinkClick r:id="" action="ppaction://hlinkshowjump?jump=nextslide"/>
          </p:cNvPr>
          <p:cNvSpPr/>
          <p:nvPr/>
        </p:nvSpPr>
        <p:spPr>
          <a:xfrm>
            <a:off x="3581280" y="495288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157" h="21600">
                <a:moveTo>
                  <a:pt x="19572" y="3794"/>
                </a:moveTo>
                <a:lnTo>
                  <a:pt x="33585" y="10800"/>
                </a:lnTo>
                <a:lnTo>
                  <a:pt x="19572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Albertus"/>
              </a:rPr>
              <a:t>Les couleurs analogues sont créées en mélangeant des couleurs opposées sur le cercle chromatique. </a:t>
            </a:r>
            <a:endParaRPr b="0" lang="en-US" sz="36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lbertus"/>
                <a:hlinkClick r:id="rId1" action="ppaction://hlinksldjump"/>
              </a:rPr>
              <a:t>Vrai/True</a:t>
            </a:r>
            <a:endParaRPr b="0" lang="en-US" sz="4000" spc="-1" strike="noStrike">
              <a:solidFill>
                <a:srgbClr val="ffffff"/>
              </a:solidFill>
              <a:latin typeface="Albertu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lbertus"/>
                <a:hlinkClick r:id="rId2" action="ppaction://hlinksldjump"/>
              </a:rPr>
              <a:t>Faux/False</a:t>
            </a:r>
            <a:endParaRPr b="0" lang="en-US" sz="40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OOPS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90" name="Picture 3" descr="upset"/>
          <p:cNvPicPr/>
          <p:nvPr/>
        </p:nvPicPr>
        <p:blipFill>
          <a:blip r:embed="rId1"/>
          <a:stretch/>
        </p:blipFill>
        <p:spPr>
          <a:xfrm>
            <a:off x="3200400" y="1905120"/>
            <a:ext cx="2577960" cy="28242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4">
            <a:hlinkClick r:id="" action="ppaction://hlinkshowjump?jump=previousslide"/>
          </p:cNvPr>
          <p:cNvSpPr/>
          <p:nvPr/>
        </p:nvSpPr>
        <p:spPr>
          <a:xfrm>
            <a:off x="3733920" y="5105520"/>
            <a:ext cx="1981080" cy="914400"/>
          </a:xfrm>
          <a:custGeom>
            <a:avLst/>
            <a:gdLst>
              <a:gd name="textAreaLeft" fmla="*/ 59040 w 1981080"/>
              <a:gd name="textAreaRight" fmla="*/ 1922040 w 1981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87" h="21600">
                <a:moveTo>
                  <a:pt x="0" y="0"/>
                </a:moveTo>
                <a:lnTo>
                  <a:pt x="46787" y="0"/>
                </a:lnTo>
                <a:lnTo>
                  <a:pt x="46787" y="21600"/>
                </a:lnTo>
                <a:lnTo>
                  <a:pt x="0" y="21600"/>
                </a:lnTo>
                <a:close/>
              </a:path>
              <a:path fill="lightenLess" w="46787" h="21600">
                <a:moveTo>
                  <a:pt x="0" y="0"/>
                </a:moveTo>
                <a:lnTo>
                  <a:pt x="46787" y="0"/>
                </a:lnTo>
                <a:lnTo>
                  <a:pt x="45387" y="1400"/>
                </a:lnTo>
                <a:lnTo>
                  <a:pt x="1400" y="1400"/>
                </a:lnTo>
                <a:close/>
              </a:path>
              <a:path fill="darken" w="46787" h="21600">
                <a:moveTo>
                  <a:pt x="46787" y="0"/>
                </a:moveTo>
                <a:lnTo>
                  <a:pt x="46787" y="21600"/>
                </a:lnTo>
                <a:lnTo>
                  <a:pt x="45387" y="20200"/>
                </a:lnTo>
                <a:lnTo>
                  <a:pt x="45387" y="1400"/>
                </a:lnTo>
                <a:close/>
              </a:path>
              <a:path fill="darkenLess" w="46787" h="21600">
                <a:moveTo>
                  <a:pt x="46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7" y="20200"/>
                </a:lnTo>
                <a:close/>
              </a:path>
              <a:path fill="lighten" w="46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7" h="21600">
                <a:moveTo>
                  <a:pt x="16387" y="10800"/>
                </a:moveTo>
                <a:lnTo>
                  <a:pt x="30400" y="3794"/>
                </a:lnTo>
                <a:lnTo>
                  <a:pt x="30400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Correcte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93" name="Picture 3" descr="thumbsup"/>
          <p:cNvPicPr/>
          <p:nvPr/>
        </p:nvPicPr>
        <p:blipFill>
          <a:blip r:embed="rId1"/>
          <a:stretch/>
        </p:blipFill>
        <p:spPr>
          <a:xfrm>
            <a:off x="3581280" y="1676520"/>
            <a:ext cx="1862280" cy="27381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4">
            <a:hlinkClick r:id="" action="ppaction://hlinkshowjump?jump=nextslide"/>
          </p:cNvPr>
          <p:cNvSpPr/>
          <p:nvPr/>
        </p:nvSpPr>
        <p:spPr>
          <a:xfrm>
            <a:off x="3581280" y="495288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157" h="21600">
                <a:moveTo>
                  <a:pt x="19572" y="3794"/>
                </a:moveTo>
                <a:lnTo>
                  <a:pt x="33585" y="10800"/>
                </a:lnTo>
                <a:lnTo>
                  <a:pt x="19572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1d1cb"/>
                </a:solidFill>
                <a:latin typeface="Albertus"/>
              </a:rPr>
              <a:t>Introduction</a:t>
            </a:r>
            <a:endParaRPr b="0" lang="en-US" sz="80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lbertus"/>
              </a:rPr>
              <a:t>Théorie des couleurs…</a:t>
            </a: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is a body of practical guidance to color mixing and the visual impact of specific color combinations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Color theory principles first appear in the writings of Alberti (c.1435) and the notebooks of Leonardo da Vinci(c.1490),  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lbertus"/>
              </a:rPr>
              <a:t>L’image du soleil est un example de couleur…?</a:t>
            </a:r>
            <a:endParaRPr b="0" lang="en-US" sz="40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lbertus"/>
                <a:hlinkClick r:id="rId1" action="ppaction://hlinksldjump"/>
              </a:rPr>
              <a:t>Chaude</a:t>
            </a:r>
            <a:endParaRPr b="0" lang="en-US" sz="28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lbertus"/>
                <a:hlinkClick r:id="rId2" action="ppaction://hlinksldjump"/>
              </a:rPr>
              <a:t>Froide</a:t>
            </a:r>
            <a:endParaRPr b="0" lang="en-US" sz="28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lbertus"/>
                <a:hlinkClick r:id="rId3" action="ppaction://hlinksldjump"/>
              </a:rPr>
              <a:t>Primaire</a:t>
            </a:r>
            <a:endParaRPr b="0" lang="en-US" sz="2800" spc="-1" strike="noStrike">
              <a:solidFill>
                <a:srgbClr val="ffffff"/>
              </a:solidFill>
              <a:latin typeface="Albertus"/>
            </a:endParaRPr>
          </a:p>
        </p:txBody>
      </p:sp>
      <p:pic>
        <p:nvPicPr>
          <p:cNvPr id="97" name="Picture 4" descr="sun4"/>
          <p:cNvPicPr/>
          <p:nvPr/>
        </p:nvPicPr>
        <p:blipFill>
          <a:blip r:embed="rId4"/>
          <a:stretch/>
        </p:blipFill>
        <p:spPr>
          <a:xfrm>
            <a:off x="3962520" y="1905120"/>
            <a:ext cx="3614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OOPS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99" name="Picture 3" descr="upset"/>
          <p:cNvPicPr/>
          <p:nvPr/>
        </p:nvPicPr>
        <p:blipFill>
          <a:blip r:embed="rId1"/>
          <a:stretch/>
        </p:blipFill>
        <p:spPr>
          <a:xfrm>
            <a:off x="3200400" y="1905120"/>
            <a:ext cx="2577960" cy="28242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4">
            <a:hlinkClick r:id="" action="ppaction://hlinkshowjump?jump=previousslide"/>
          </p:cNvPr>
          <p:cNvSpPr/>
          <p:nvPr/>
        </p:nvSpPr>
        <p:spPr>
          <a:xfrm>
            <a:off x="3733920" y="5105520"/>
            <a:ext cx="1981080" cy="914400"/>
          </a:xfrm>
          <a:custGeom>
            <a:avLst/>
            <a:gdLst>
              <a:gd name="textAreaLeft" fmla="*/ 59040 w 1981080"/>
              <a:gd name="textAreaRight" fmla="*/ 1922040 w 1981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87" h="21600">
                <a:moveTo>
                  <a:pt x="0" y="0"/>
                </a:moveTo>
                <a:lnTo>
                  <a:pt x="46787" y="0"/>
                </a:lnTo>
                <a:lnTo>
                  <a:pt x="46787" y="21600"/>
                </a:lnTo>
                <a:lnTo>
                  <a:pt x="0" y="21600"/>
                </a:lnTo>
                <a:close/>
              </a:path>
              <a:path fill="lightenLess" w="46787" h="21600">
                <a:moveTo>
                  <a:pt x="0" y="0"/>
                </a:moveTo>
                <a:lnTo>
                  <a:pt x="46787" y="0"/>
                </a:lnTo>
                <a:lnTo>
                  <a:pt x="45387" y="1400"/>
                </a:lnTo>
                <a:lnTo>
                  <a:pt x="1400" y="1400"/>
                </a:lnTo>
                <a:close/>
              </a:path>
              <a:path fill="darken" w="46787" h="21600">
                <a:moveTo>
                  <a:pt x="46787" y="0"/>
                </a:moveTo>
                <a:lnTo>
                  <a:pt x="46787" y="21600"/>
                </a:lnTo>
                <a:lnTo>
                  <a:pt x="45387" y="20200"/>
                </a:lnTo>
                <a:lnTo>
                  <a:pt x="45387" y="1400"/>
                </a:lnTo>
                <a:close/>
              </a:path>
              <a:path fill="darkenLess" w="46787" h="21600">
                <a:moveTo>
                  <a:pt x="46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7" y="20200"/>
                </a:lnTo>
                <a:close/>
              </a:path>
              <a:path fill="lighten" w="46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7" h="21600">
                <a:moveTo>
                  <a:pt x="16387" y="10800"/>
                </a:moveTo>
                <a:lnTo>
                  <a:pt x="30400" y="3794"/>
                </a:lnTo>
                <a:lnTo>
                  <a:pt x="30400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Correcte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102" name="Picture 3" descr="thumbsup"/>
          <p:cNvPicPr/>
          <p:nvPr/>
        </p:nvPicPr>
        <p:blipFill>
          <a:blip r:embed="rId1"/>
          <a:stretch/>
        </p:blipFill>
        <p:spPr>
          <a:xfrm>
            <a:off x="3581280" y="1676520"/>
            <a:ext cx="1862280" cy="27381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4">
            <a:hlinkClick r:id="" action="ppaction://hlinkshowjump?jump=nextslide"/>
          </p:cNvPr>
          <p:cNvSpPr/>
          <p:nvPr/>
        </p:nvSpPr>
        <p:spPr>
          <a:xfrm>
            <a:off x="3581280" y="495288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157" h="21600">
                <a:moveTo>
                  <a:pt x="19572" y="3794"/>
                </a:moveTo>
                <a:lnTo>
                  <a:pt x="33585" y="10800"/>
                </a:lnTo>
                <a:lnTo>
                  <a:pt x="19572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lbertus"/>
              </a:rPr>
              <a:t>Une couleur primaire mélangée à une couleur secondaire est:</a:t>
            </a:r>
            <a:endParaRPr b="0" lang="en-US" sz="40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lbertus"/>
                <a:hlinkClick r:id="rId1" action="ppaction://hlinksldjump"/>
              </a:rPr>
              <a:t>Couleur complementaire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lbertus"/>
              </a:rPr>
              <a:t>Couleur analogue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lbertus"/>
              </a:rPr>
              <a:t>Couleur tertiaire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OOPS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107" name="Picture 3" descr="upset"/>
          <p:cNvPicPr/>
          <p:nvPr/>
        </p:nvPicPr>
        <p:blipFill>
          <a:blip r:embed="rId1"/>
          <a:stretch/>
        </p:blipFill>
        <p:spPr>
          <a:xfrm>
            <a:off x="3200400" y="1905120"/>
            <a:ext cx="2577960" cy="28242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4">
            <a:hlinkClick r:id="" action="ppaction://hlinkshowjump?jump=previousslide"/>
          </p:cNvPr>
          <p:cNvSpPr/>
          <p:nvPr/>
        </p:nvSpPr>
        <p:spPr>
          <a:xfrm>
            <a:off x="3733920" y="5105520"/>
            <a:ext cx="1981080" cy="914400"/>
          </a:xfrm>
          <a:custGeom>
            <a:avLst/>
            <a:gdLst>
              <a:gd name="textAreaLeft" fmla="*/ 59040 w 1981080"/>
              <a:gd name="textAreaRight" fmla="*/ 1922040 w 1981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87" h="21600">
                <a:moveTo>
                  <a:pt x="0" y="0"/>
                </a:moveTo>
                <a:lnTo>
                  <a:pt x="46787" y="0"/>
                </a:lnTo>
                <a:lnTo>
                  <a:pt x="46787" y="21600"/>
                </a:lnTo>
                <a:lnTo>
                  <a:pt x="0" y="21600"/>
                </a:lnTo>
                <a:close/>
              </a:path>
              <a:path fill="lightenLess" w="46787" h="21600">
                <a:moveTo>
                  <a:pt x="0" y="0"/>
                </a:moveTo>
                <a:lnTo>
                  <a:pt x="46787" y="0"/>
                </a:lnTo>
                <a:lnTo>
                  <a:pt x="45387" y="1400"/>
                </a:lnTo>
                <a:lnTo>
                  <a:pt x="1400" y="1400"/>
                </a:lnTo>
                <a:close/>
              </a:path>
              <a:path fill="darken" w="46787" h="21600">
                <a:moveTo>
                  <a:pt x="46787" y="0"/>
                </a:moveTo>
                <a:lnTo>
                  <a:pt x="46787" y="21600"/>
                </a:lnTo>
                <a:lnTo>
                  <a:pt x="45387" y="20200"/>
                </a:lnTo>
                <a:lnTo>
                  <a:pt x="45387" y="1400"/>
                </a:lnTo>
                <a:close/>
              </a:path>
              <a:path fill="darkenLess" w="46787" h="21600">
                <a:moveTo>
                  <a:pt x="46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7" y="20200"/>
                </a:lnTo>
                <a:close/>
              </a:path>
              <a:path fill="lighten" w="46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7" h="21600">
                <a:moveTo>
                  <a:pt x="16387" y="10800"/>
                </a:moveTo>
                <a:lnTo>
                  <a:pt x="30400" y="3794"/>
                </a:lnTo>
                <a:lnTo>
                  <a:pt x="30400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Correcte!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110" name="Picture 3" descr="thumbsup"/>
          <p:cNvPicPr/>
          <p:nvPr/>
        </p:nvPicPr>
        <p:blipFill>
          <a:blip r:embed="rId1"/>
          <a:stretch/>
        </p:blipFill>
        <p:spPr>
          <a:xfrm>
            <a:off x="3581280" y="1676520"/>
            <a:ext cx="1862280" cy="273816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4">
            <a:hlinkClick r:id="" action="ppaction://hlinkshowjump?jump=nextslide"/>
          </p:cNvPr>
          <p:cNvSpPr/>
          <p:nvPr/>
        </p:nvSpPr>
        <p:spPr>
          <a:xfrm>
            <a:off x="3581280" y="495288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157" h="21600">
                <a:moveTo>
                  <a:pt x="19572" y="3794"/>
                </a:moveTo>
                <a:lnTo>
                  <a:pt x="33585" y="10800"/>
                </a:lnTo>
                <a:lnTo>
                  <a:pt x="19572" y="17806"/>
                </a:lnTo>
                <a:close/>
              </a:path>
            </a:pathLst>
          </a:cu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lbertus"/>
              </a:rPr>
              <a:t>Pour plus d’informations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85800" y="1981080"/>
            <a:ext cx="731520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lbertus"/>
              </a:rPr>
              <a:t>http://www.bbc.co.uk/cbbc/art/activities/games/factory.html</a:t>
            </a: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lbertus"/>
              </a:rPr>
              <a:t>http://www.thetech.org/exhibits/online/color/overview/</a:t>
            </a: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lbertus"/>
              </a:rPr>
              <a:t>http://www.learner.org/teacherslab/science/light/color/dots/index.html</a:t>
            </a: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lbertus"/>
              </a:rPr>
              <a:t>http://www.atelier-salamandre.net/cours-couleur.html</a:t>
            </a: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lbertus"/>
              </a:rPr>
              <a:t>http://www.sarljuliac.fr/chromatique.html</a:t>
            </a: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295280" y="175248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lbertus"/>
              </a:rPr>
              <a:t>Merci!</a:t>
            </a:r>
            <a:endParaRPr b="0" lang="en-US" sz="80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Albertus"/>
              </a:rPr>
              <a:t>Couleurs primaires</a:t>
            </a:r>
            <a:endParaRPr b="0" lang="en-US" sz="60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46" name="Picture 10" descr="MPj04306220000[1]"/>
          <p:cNvPicPr/>
          <p:nvPr/>
        </p:nvPicPr>
        <p:blipFill>
          <a:blip r:embed="rId1"/>
          <a:stretch/>
        </p:blipFill>
        <p:spPr>
          <a:xfrm>
            <a:off x="457200" y="1447920"/>
            <a:ext cx="3505320" cy="232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MPj04020730000[1]"/>
          <p:cNvPicPr/>
          <p:nvPr/>
        </p:nvPicPr>
        <p:blipFill>
          <a:blip r:embed="rId2"/>
          <a:stretch/>
        </p:blipFill>
        <p:spPr>
          <a:xfrm>
            <a:off x="5715000" y="1447920"/>
            <a:ext cx="267192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MPj04229590000[1]"/>
          <p:cNvPicPr/>
          <p:nvPr/>
        </p:nvPicPr>
        <p:blipFill>
          <a:blip r:embed="rId3"/>
          <a:stretch/>
        </p:blipFill>
        <p:spPr>
          <a:xfrm>
            <a:off x="3352680" y="4114800"/>
            <a:ext cx="2697120" cy="2187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8"/>
          <p:cNvSpPr/>
          <p:nvPr/>
        </p:nvSpPr>
        <p:spPr>
          <a:xfrm>
            <a:off x="609480" y="4038480"/>
            <a:ext cx="281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lbertus"/>
              </a:rPr>
              <a:t>Rouge Jaune  et Bleu</a:t>
            </a:r>
            <a:endParaRPr b="0" lang="en-US" sz="44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1d1cb"/>
                </a:solidFill>
                <a:latin typeface="Albertus"/>
              </a:rPr>
              <a:t>Couleurs secondaires</a:t>
            </a:r>
            <a:endParaRPr b="0" lang="en-US" sz="66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081080" y="2438280"/>
            <a:ext cx="2616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Albertus"/>
              </a:rPr>
              <a:t>Orange</a:t>
            </a:r>
            <a:endParaRPr b="0" lang="en-US" sz="5400" spc="-1" strike="noStrike">
              <a:solidFill>
                <a:srgbClr val="ffffff"/>
              </a:solidFill>
              <a:latin typeface="Albert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2d050"/>
                </a:solidFill>
                <a:latin typeface="Albertus"/>
              </a:rPr>
              <a:t>Vert</a:t>
            </a:r>
            <a:endParaRPr b="0" lang="en-US" sz="5400" spc="-1" strike="noStrike">
              <a:solidFill>
                <a:srgbClr val="ffffff"/>
              </a:solidFill>
              <a:latin typeface="Albert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lbertus"/>
              </a:rPr>
              <a:t>Violet</a:t>
            </a:r>
            <a:endParaRPr b="0" lang="en-US" sz="5400" spc="-1" strike="noStrike">
              <a:solidFill>
                <a:srgbClr val="ffffff"/>
              </a:solidFill>
              <a:latin typeface="Albert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lbertu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685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"/>
            </a:endParaRPr>
          </a:p>
        </p:txBody>
      </p:sp>
      <p:pic>
        <p:nvPicPr>
          <p:cNvPr id="53" name="Picture 10" descr="http://www.conceptdecors16.com/images/1couleurs.gif"/>
          <p:cNvPicPr/>
          <p:nvPr/>
        </p:nvPicPr>
        <p:blipFill>
          <a:blip r:embed="rId1"/>
          <a:stretch/>
        </p:blipFill>
        <p:spPr>
          <a:xfrm>
            <a:off x="5099040" y="2470320"/>
            <a:ext cx="68580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Albertus"/>
              </a:rPr>
              <a:t>Couleurs tertiaires</a:t>
            </a:r>
            <a:endParaRPr b="0" lang="en-US" sz="4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Formed by mixing a primary and a secondary colour 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Jaune-orange, rouge-orange, red-violet, bleu-violet, bleu-vert and vert-jaune 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pic>
        <p:nvPicPr>
          <p:cNvPr id="56" name="Picture 5" descr="couleurs tertiaires.png"/>
          <p:cNvPicPr/>
          <p:nvPr/>
        </p:nvPicPr>
        <p:blipFill>
          <a:blip r:embed="rId1"/>
          <a:stretch/>
        </p:blipFill>
        <p:spPr>
          <a:xfrm>
            <a:off x="2514600" y="3762360"/>
            <a:ext cx="44863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1d1cb"/>
                </a:solidFill>
                <a:latin typeface="Albertus"/>
              </a:rPr>
              <a:t>Couleurs analogues</a:t>
            </a:r>
            <a:endParaRPr b="0" lang="en-US" sz="60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58" name="Picture 4" descr="ctheory_leaf"/>
          <p:cNvPicPr/>
          <p:nvPr/>
        </p:nvPicPr>
        <p:blipFill>
          <a:blip r:embed="rId1"/>
          <a:stretch/>
        </p:blipFill>
        <p:spPr>
          <a:xfrm>
            <a:off x="609480" y="1600200"/>
            <a:ext cx="7239240" cy="24130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73160" y="4327200"/>
            <a:ext cx="897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Les couleurs analogues sont… any three colours which are side by side on a 12 part color wheel (roue de couleurs chromatiques)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1d1cb"/>
                </a:solidFill>
                <a:latin typeface="Albertus"/>
              </a:rPr>
              <a:t>Couleurs complémentaires</a:t>
            </a:r>
            <a:endParaRPr b="0" lang="en-US" sz="48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61" name="Picture 4" descr="ctheory_orchid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2819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685800" y="43434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lbertus"/>
              </a:rPr>
              <a:t>Les couleurs complémentaires sont…any two colors which are directly opposite each other </a:t>
            </a:r>
            <a:endParaRPr b="0" lang="en-US" sz="3600" spc="-1" strike="noStrike">
              <a:solidFill>
                <a:srgbClr val="ffffff"/>
              </a:solidFill>
              <a:latin typeface="Albert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cb"/>
                </a:solidFill>
                <a:latin typeface="Albertus"/>
              </a:rPr>
              <a:t>Tons chauds et froids</a:t>
            </a:r>
            <a:endParaRPr b="0" lang="en-US" sz="5400" spc="-1" strike="noStrike">
              <a:solidFill>
                <a:srgbClr val="d1d1cb"/>
              </a:solidFill>
              <a:latin typeface="Albertu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Couleurs chaudes– rouge, jaune, brun et beige 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lbertus"/>
              </a:rPr>
              <a:t>Couleurs froides- bleu, vert, bleu-vert, bleu- violet, et gris</a:t>
            </a:r>
            <a:endParaRPr b="0" lang="en-US" sz="3200" spc="-1" strike="noStrike">
              <a:solidFill>
                <a:srgbClr val="ffffff"/>
              </a:solidFill>
              <a:latin typeface="Albertus"/>
            </a:endParaRPr>
          </a:p>
        </p:txBody>
      </p:sp>
      <p:pic>
        <p:nvPicPr>
          <p:cNvPr id="65" name="Picture 4" descr="sun-cloud"/>
          <p:cNvPicPr/>
          <p:nvPr/>
        </p:nvPicPr>
        <p:blipFill>
          <a:blip r:embed="rId1"/>
          <a:stretch/>
        </p:blipFill>
        <p:spPr>
          <a:xfrm>
            <a:off x="4724280" y="3429000"/>
            <a:ext cx="387684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1d1cb"/>
                </a:solidFill>
                <a:latin typeface="Albertus"/>
              </a:rPr>
              <a:t>Révision</a:t>
            </a:r>
            <a:endParaRPr b="0" lang="en-US" sz="9600" spc="-1" strike="noStrike">
              <a:solidFill>
                <a:srgbClr val="d1d1cb"/>
              </a:solidFill>
              <a:latin typeface="Albertus"/>
            </a:endParaRPr>
          </a:p>
        </p:txBody>
      </p:sp>
      <p:pic>
        <p:nvPicPr>
          <p:cNvPr id="67" name="Picture 4" descr="MMAG00300_0000[1]"/>
          <p:cNvPicPr/>
          <p:nvPr/>
        </p:nvPicPr>
        <p:blipFill>
          <a:blip r:embed="rId1"/>
          <a:stretch/>
        </p:blipFill>
        <p:spPr>
          <a:xfrm>
            <a:off x="3276720" y="1357200"/>
            <a:ext cx="24858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45:27Z</dcterms:created>
  <dc:creator>student</dc:creator>
  <dc:description/>
  <dc:language>en-US</dc:language>
  <cp:lastModifiedBy>Diane</cp:lastModifiedBy>
  <dcterms:modified xsi:type="dcterms:W3CDTF">2010-09-13T22:09:16Z</dcterms:modified>
  <cp:revision>19</cp:revision>
  <dc:subject/>
  <dc:title>Color Theory</dc:title>
</cp:coreProperties>
</file>